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9F6-EDDD-4AC9-B88F-08986FEC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7525-B1F8-4E27-81F8-5F5699D9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232-C437-490B-8AF5-2746A456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33FF-9995-48B0-A169-A3D2BA23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39B2-9FB9-4538-A09D-31458421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2165-6271-4A39-964B-2CFA7A80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91F7-48E1-4CFD-B2C6-1CEC2A75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4C0C-3E21-460C-94AE-7C24AE30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BCB4-2A7A-4F14-B188-F50A2452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46C1-230F-4C04-BC4A-A5082980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FAD9-F32C-46A1-BA04-78871153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08B-E942-4589-9998-A3079D26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E230-878E-4E82-B4F0-6211292F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026F-1567-41EE-A018-4A8FE772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26F0-3835-4851-9F90-559CA698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9376-E928-4C34-AE0A-834367D3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68E5-8A9D-4109-9DB5-68DD0248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7983-45F5-48E7-AF49-824C64C6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500F-BA5B-499B-8C81-914F62F7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308-60F3-4BB2-9D11-947F65BC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313-2FE4-46A2-AE58-86FB4D3E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C9D-9715-422F-8AB2-B76AA5D7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7AE-E9F6-4AF5-AD07-79E0E0DF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E7B-D0E6-47CB-B377-FF0C5F33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33B2-DFCC-404C-9F59-C2D7E64F1C6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DF0F-2C9B-4B81-8AA6-CF07A33F85D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MPARATIVOS Y SUPERLATIVOS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Una presentació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ara la clase de españo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ás o menos con número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4583160" cy="1282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819520" y="3200400"/>
            <a:ext cx="44956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Hay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más d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cinco elef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Hay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menos d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siete elef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4800600"/>
            <a:ext cx="6324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 decir “more than” o “less than” con números se usa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más 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menos 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ráctic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2590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scribe frases </a:t>
            </a: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comparativas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y </a:t>
            </a: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superlativ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rogramas cómicos/divertido/las notici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os programas cómicos son más divertidos que las noticia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e gusta/jugo de naranja/jugo de manzan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e gusta el jugo de naranja más que el jugo de manzana.  (o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e gusta el jugo de naranja menos que el jugo de manzana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guisantes/delicioso/ verdur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os guisantes son los más deliciosos de las verdura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hay/ cinco botellas/mes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Hay más de cinco botellas en la mesa. (o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Hay menos de cinco botellas en la mesa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elículas del oeste/interesante/películas de terro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as películas del oeste son más interesantes que las películas de terror.  (o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as películas del oeste son menos interesantes que las películas de terror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discos compactos/bueno/cint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os discos compactos son mejores que las cinta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eatles/malo/Rolling Ston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os Beatles son peores que los Rolling Stone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ammy Sosa/jugador/popular/Mark McGuir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ammy Sosa es un jugador más popular que Mark McGuire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¡Es fácil comparar en español!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1295280" cy="1631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438280" y="19051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a casa es gran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743200" y="2743200"/>
            <a:ext cx="2971800" cy="1676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34120" y="27432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 granero es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más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grande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 qu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la ca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castle45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3581280" cy="2362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57400" y="4648320"/>
            <a:ext cx="3429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 castillo 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el más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grande</a:t>
            </a: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de</a:t>
            </a:r>
            <a:r>
              <a:rPr b="0" lang="en-US" sz="28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o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ibros/malo/revist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os libros son peores que las revista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i hermana/viejo/mi herman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i hermana es mayor que mi hermano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Kennedy/joven/todos los presidente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Kennedy es el menor de todos los presidente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Hay/20 estudiantes/en la clas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Hay más de 20 estudiantes en la clase. (o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Hay menos de 20 estudiantes en la clase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Impact"/>
              </a:rPr>
              <a:t>EL FIN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809880" y="3048120"/>
            <a:ext cx="228600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¡Otro ejemplo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520" y="228600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sta flor es bonita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1197000" cy="1447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781680" y="2743200"/>
            <a:ext cx="1766880" cy="1760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38280" y="3276720"/>
            <a:ext cx="403884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Esta flor es </a:t>
            </a:r>
            <a:r>
              <a:rPr b="1" lang="en-US" sz="3200" spc="-1" strike="noStrike">
                <a:solidFill>
                  <a:srgbClr val="99ffcc"/>
                </a:solidFill>
                <a:latin typeface="Impact"/>
              </a:rPr>
              <a:t>más</a:t>
            </a:r>
            <a:r>
              <a:rPr b="0" lang="en-US" sz="32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on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99ffcc"/>
                </a:solidFill>
                <a:latin typeface="Impact"/>
              </a:rPr>
              <a:t>que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la otra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066680" y="4800600"/>
            <a:ext cx="2667240" cy="1631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830760" y="5334120"/>
            <a:ext cx="531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sta flor es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la más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bonita</a:t>
            </a:r>
            <a:r>
              <a:rPr b="0" lang="en-US" sz="28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d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 jardí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!Cómo usar </a:t>
            </a:r>
            <a:r>
              <a:rPr b="0" lang="en-US" sz="4400" spc="-1" strike="noStrike">
                <a:solidFill>
                  <a:srgbClr val="99ffcc"/>
                </a:solidFill>
                <a:latin typeface="Impact"/>
              </a:rPr>
              <a:t>menos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1828800" cy="1981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09400" y="1962000"/>
            <a:ext cx="42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ste dinosaurio es feroz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400800" y="2590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054600" y="3124080"/>
            <a:ext cx="450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ste dinosaurio es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m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feroz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qu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el ot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371600" y="4343400"/>
            <a:ext cx="1965240" cy="2514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733920" y="472428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ste dinosaurio es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el menos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feroz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d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 mun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ormas irregulares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2044440"/>
            <a:ext cx="777240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Impact"/>
              </a:rPr>
              <a:t>Bueno,  malo, viejo,  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</a:t>
            </a:r>
            <a:r>
              <a:rPr b="0" lang="en-US" sz="3200" spc="-1" strike="noStrike">
                <a:solidFill>
                  <a:srgbClr val="99ffcc"/>
                </a:solidFill>
                <a:latin typeface="Impact"/>
              </a:rPr>
              <a:t> joven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 tienen formas de comparativos y superlativos irregulare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12720" y="3352680"/>
          <a:ext cx="601200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2720" y="3352680"/>
                    <a:ext cx="60120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447920" y="3962520"/>
            <a:ext cx="739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Bueno </a:t>
            </a:r>
            <a:r>
              <a:rPr b="1" lang="en-US" sz="2800" spc="-1" strike="noStrike">
                <a:solidFill>
                  <a:srgbClr val="99ffcc"/>
                </a:solidFill>
                <a:latin typeface="Directions MT"/>
                <a:ea typeface="Directions MT"/>
              </a:rPr>
              <a:t>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 Mejor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Viejo </a:t>
            </a:r>
            <a:r>
              <a:rPr b="1" lang="en-US" sz="2800" spc="-1" strike="noStrike">
                <a:solidFill>
                  <a:srgbClr val="99ffcc"/>
                </a:solidFill>
                <a:latin typeface="Directions MT"/>
                <a:ea typeface="Directions MT"/>
              </a:rPr>
              <a:t>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 May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Malo </a:t>
            </a:r>
            <a:r>
              <a:rPr b="1" lang="en-US" sz="2800" spc="-1" strike="noStrike">
                <a:solidFill>
                  <a:srgbClr val="99ffcc"/>
                </a:solidFill>
                <a:latin typeface="Directions MT"/>
                <a:ea typeface="Directions MT"/>
              </a:rPr>
              <a:t>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 Peor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Joven </a:t>
            </a:r>
            <a:r>
              <a:rPr b="1" lang="en-US" sz="2800" spc="-1" strike="noStrike">
                <a:solidFill>
                  <a:srgbClr val="99ffcc"/>
                </a:solidFill>
                <a:latin typeface="Directions MT"/>
                <a:ea typeface="Directions MT"/>
              </a:rPr>
              <a:t>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 Men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Buen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2057400" cy="1622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276720" y="2038320"/>
            <a:ext cx="39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a manzana es bue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934320" y="2971800"/>
            <a:ext cx="2209680" cy="1792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133720" y="3581280"/>
            <a:ext cx="45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 plátano es </a:t>
            </a:r>
            <a:r>
              <a:rPr b="0" lang="en-US" sz="2800" spc="-1" strike="noStrike">
                <a:solidFill>
                  <a:srgbClr val="99ffcc"/>
                </a:solidFill>
                <a:latin typeface="Impact"/>
              </a:rPr>
              <a:t>mejor qu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la manza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438280" cy="1600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038480" y="4648320"/>
            <a:ext cx="42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as cerezas son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las mejores d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todas las fru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al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43000" y="457200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76560" y="2133720"/>
            <a:ext cx="50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 chocolate caliente es mal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81680" y="2971800"/>
            <a:ext cx="1676520" cy="1639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169080" y="3429000"/>
            <a:ext cx="349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 té es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peor qu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hocolate caliente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219320" y="762120"/>
            <a:ext cx="1676160" cy="2590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55000" y="5029200"/>
            <a:ext cx="473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 café es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el peor d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odas las bebidas cali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Viej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2819520" cy="1752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200400" y="3657600"/>
            <a:ext cx="41911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 abuelo es vie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 padre es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mayor qu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la mad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 abuelo es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el mayor d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la famil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Jove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768400" cy="2616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447920" y="2438280"/>
            <a:ext cx="4267080" cy="37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os hijos son jóve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La madre es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menor qu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el pad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l hijo es </a:t>
            </a:r>
            <a:r>
              <a:rPr b="1" lang="en-US" sz="2800" spc="-1" strike="noStrike">
                <a:solidFill>
                  <a:srgbClr val="99ffcc"/>
                </a:solidFill>
                <a:latin typeface="Impact"/>
              </a:rPr>
              <a:t>el menor de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to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5T15:53:58Z</dcterms:created>
  <dc:creator>Williamsburg Middle School</dc:creator>
  <dc:description/>
  <dc:language>en-US</dc:language>
  <cp:lastModifiedBy>Saint John's Hgh School</cp:lastModifiedBy>
  <cp:lastPrinted>1999-02-03T18:59:24Z</cp:lastPrinted>
  <dcterms:modified xsi:type="dcterms:W3CDTF">2002-01-24T13:13:36Z</dcterms:modified>
  <cp:revision>2</cp:revision>
  <dc:subject/>
  <dc:title>COMPARATIVOS Y SUPERLATIVOS </dc:title>
</cp:coreProperties>
</file>